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9.png" ContentType="image/pn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25BF6-7B85-4DD7-A59D-F8BAD03F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56CF5-3022-4A71-8D35-767F8B4A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47476-F3D7-4B42-B99B-DB571D42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28D00-3E70-4F57-85D4-D5B917EA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E1311-74F2-46DF-9D8D-595A9A03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87626-DFDD-4575-8C82-5A22C3BD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F1C3E-B3C8-4DD4-B239-708F4EF3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136BC-3E0E-4D94-A4E2-08C55E28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6593B-1433-4AD5-81B6-2B945868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A3A89-1D35-4024-81E5-694E3811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513FB-98E0-428E-88C7-B465DDE1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6233A-7F96-47F2-B29F-6277CC14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B5BC7-417F-479A-8F75-D281532C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42D25-EDE3-47A7-8D6C-B0CD32DD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6A146-5AA5-4DF6-9017-63AE91C0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0DEE3-D278-4DDB-ADF3-12B84216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73608-9502-4CB4-B477-9A2ABB2E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81075-C323-4520-AF3B-F2F78599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705A1-0447-485A-9070-F2CAFA2F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1A0A6-D096-44D4-8415-F31C939F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F9820-B3CA-4E52-8B33-F9DEB1E7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7540A-57EF-4F63-9FD3-18E7C7CA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F1CC6-B32A-44B7-864A-344D18A8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D2497-F94C-49F5-AE21-0DB852B4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94C9C-7DD6-4A1C-BAD0-172E2EE5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7EDF7-4E43-4033-A406-0403B609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3671C-4278-4ACA-8D88-293E05F8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E0B42-FD81-46A3-A216-083ADFC5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DD2EC-386D-4459-B983-194F7571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C6D19-09AA-48C4-A73E-9502D768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06F-55A4-4243-A084-17946AAC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AB7F0-E11C-4BFD-82A8-DE00C029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ACFC3-EE3C-4044-9190-39A88EDE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1AA4D-4A02-470E-A911-4BD0AB91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CF36A-CA51-45DB-BDEC-6BD79BB3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F7BAD-2247-46C7-B43F-8798D7E2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65927-5838-4E58-AA4E-486D955A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17E79-54DC-49A9-8535-061AB1F7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405EC-BE88-46D9-9A51-E05A7297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93C3B-50D0-4C9A-9164-B35BFE85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DAB7D-2047-4441-AF0B-548A2D69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C12-28D9-41A0-9058-B50F4FF6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737FB-F075-43F8-B894-1F326BF5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AC765-432B-4A44-9B7F-DA64E4E1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2D5D6-12A2-4285-AE13-9E77602D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B6039-5021-48C7-A09D-ED63F6A2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737DA-49A7-4439-83D6-0B2285B7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9B1-AF0C-46FE-A7FD-09BB3AE0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748-D65F-484E-9B95-445493DC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6D2-94D3-4A04-967A-5DD9342C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697-C560-485B-B67F-42C5C490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115-9B8C-46DA-86FB-F7257E29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DF0-5BB1-44A0-A149-F5ACE1E2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E4F7-9A49-4ABB-966C-B83330E8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182-DB53-41AA-B0FB-538D6CD4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D243-E166-4954-A783-3AF91B64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53E-02C2-4984-A8E8-6E931955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2ABB-6AD6-4826-9379-830F21FF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1508-83A7-494C-B5E4-2389FDA2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D2C4-E046-498C-8770-AB9BB401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EB79-5290-4FBA-BF76-473DEBFC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A898-4494-4C22-A9A6-AE9C9AA0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B686-2596-45CD-8F27-8CFC04DA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48B6-A67A-4F2C-90E7-12FE99BB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7F69-A4F6-4A42-B3A7-27FB21ED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D21C-F625-4261-9398-C51BCD77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0E8A-B4D0-4677-96A8-9A5C5571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CD94-D4F5-4988-8F98-2048E54E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F0E8-CAD3-4DA9-8A9F-B62E0E52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86D7F-5D59-4439-8373-7AB37ECB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0751-3969-480B-A67A-1C4D742D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CA07-DF27-4CEF-9197-AF83B5A4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90F8F-C629-4623-ACA5-CF596653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D34A7-B145-4587-AAE1-6F9068E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39F94-73AC-4703-A339-6951E47E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A1274-2AB4-4721-82C9-F884C7B5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152F-0458-4458-9F02-C9709A32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D4F3-C4B0-4785-8C3C-3BA09E93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D4DD-7C97-4E83-B3ED-560FA67D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DCA1-3A57-488A-9958-36C332AB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AAB8F-7CB2-4166-82C4-68A7DF93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B1BBE-E490-4EC5-A878-22BA875B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495CC-5315-4886-B1AB-47EB8C02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7499B-D774-4D5E-BDD2-584E6590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752B3-1261-4322-82F8-BFBD6ACC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E559-4905-4CEC-896C-0EC09C83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945DA-5152-409B-9735-AD540332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F06AE-1DC6-436F-95E8-70662A87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A5176-AE5C-4A49-A6F7-A128595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C9597-68AF-430A-BDD7-CC0DF4F2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42998-50CB-47AF-8C71-3AE8880D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33485-5BCB-478B-A4E5-3F8E2791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0FCA-13DD-42F9-A1A2-3E3130A0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6909C-994F-44E6-9D67-61FB831C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5FD9A-3427-4F6F-B4B3-604EFAE8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46612-69DC-4F9B-B649-D75BF401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6D0D2-4810-42E1-AFF3-025E1228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87330-871D-4D16-86BC-454B91B5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088A7-CF9A-41FD-B0EE-D0A52268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80C73-4842-4BBB-8470-37708E98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68C11-AEB5-4545-9FD3-5EC0A4D3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A6D69-68B7-4B59-B81C-0280689F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06BCA-B330-4A29-98C9-4E97205E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97ADE-8CA1-49FB-A282-AB1B6890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5E8BA-738C-4C5F-852F-CC7E064C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B0E94-AEBE-4918-BFB9-F33A9319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E0E98-59EB-4B07-B06C-C5FD6D43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B30C0-274C-466E-A2F8-6DB65E07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1E91-66F9-481E-9FD1-DCAB853A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93E35-3724-4A00-ACCC-CFE16B6E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CBCC-C5DF-4294-ADAA-6E299CEB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F1A85-0B36-4821-9122-208B54C5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F5D8-46D8-4380-AB14-702281D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2D2E9-4ACA-4A9F-BDCA-BB2222A7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54BD-D59C-4DE1-8804-0BADB11A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7ED28-4A7C-47C1-BF22-F90B25A4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543A-6D2F-4A6D-8BFA-805656BB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E6439-15DC-4F8B-B3EA-A420D46F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28DC5-8A31-4DDB-BF04-D2CE3363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564A9-2263-4FE7-A1E1-4F771B6B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1CC0C-7238-4EF1-8DD7-A7CBCF23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92C54-C3D7-4D8F-B5D4-8758EFA1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3571E-0F38-4ACB-AE9B-A482DC9E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5FB30-669E-4D7E-AE8F-7764B9E3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7CF1E-7B62-4531-8A95-53E908E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C8B1E-3D27-4D52-A7DA-011E8AA4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C363A-FC2C-49E7-8525-A2896E1D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7E0C2-D59C-42DB-8661-6B455CA7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C4345-1C3B-4B04-A0F4-920689D2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EBBC5-0EED-4DF6-BF61-056E4CAE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8EEF4-7065-48CD-8B70-7DAABC6A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1824D-D686-43CF-B845-9A80B967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3B7B-561D-49FA-ACC2-1A00BB0FD35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0E00-2E42-4C23-A71C-F3D484450FC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5AAD-684F-4AEB-9854-5DF5708CBB5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C216-AEEA-4C3D-A60F-4553A6A935A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8093-5CAE-4E8A-A1F6-89CBAB9E030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E6AB-C689-4F02-BA4B-8440630E82D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BFC5-A222-4A90-BF28-0C50189587B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ACE8-AA24-4AA1-B459-56345DDCE82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C572-3367-4A76-8FA6-49D9CB899B7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ED36-77F6-437D-916C-3632D7A5A65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F2C9-9BFC-42FF-B5DE-EF2C6E3745C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2050920" y="2276640"/>
            <a:ext cx="698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  <a:ea typeface="Arial"/>
              </a:rPr>
              <a:t>Intensification of maize-legume based systems in the semi-arid areas of Tanzania to increase farm productivity and improve farming natural resource b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5c29"/>
                </a:solidFill>
                <a:latin typeface="Calibri"/>
                <a:ea typeface="Calibri"/>
              </a:rPr>
              <a:t>Kimaro, A, Swai, E., Ganga Rao, NVRP and </a:t>
            </a:r>
            <a:r>
              <a:rPr b="1" lang="en-US" sz="2000" spc="-1" strike="noStrike" u="sng">
                <a:solidFill>
                  <a:srgbClr val="225c29"/>
                </a:solidFill>
                <a:uFillTx/>
                <a:latin typeface="Calibri"/>
                <a:ea typeface="Calibri"/>
              </a:rPr>
              <a:t>Okori,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traight Connector 5"/>
          <p:cNvSpPr/>
          <p:nvPr/>
        </p:nvSpPr>
        <p:spPr>
          <a:xfrm>
            <a:off x="1979640" y="2205000"/>
            <a:ext cx="4680" cy="228132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-12600" y="0"/>
            <a:ext cx="1635120" cy="68850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9" name="Group 2"/>
          <p:cNvGrpSpPr/>
          <p:nvPr/>
        </p:nvGrpSpPr>
        <p:grpSpPr>
          <a:xfrm>
            <a:off x="230040" y="6076800"/>
            <a:ext cx="4918320" cy="667080"/>
            <a:chOff x="230040" y="6076800"/>
            <a:chExt cx="4918320" cy="667080"/>
          </a:xfrm>
        </p:grpSpPr>
        <p:sp>
          <p:nvSpPr>
            <p:cNvPr id="530" name="Rectangle 1"/>
            <p:cNvSpPr/>
            <p:nvPr/>
          </p:nvSpPr>
          <p:spPr>
            <a:xfrm>
              <a:off x="230040" y="6076800"/>
              <a:ext cx="491832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1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341280" y="6144480"/>
              <a:ext cx="46954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2" name="Picture 8" descr="D:\Jobs 2013\ID and Visiting cards\Covers\G2.png"/>
          <p:cNvPicPr/>
          <p:nvPr/>
        </p:nvPicPr>
        <p:blipFill>
          <a:blip r:embed="rId2"/>
          <a:stretch/>
        </p:blipFill>
        <p:spPr>
          <a:xfrm>
            <a:off x="1258920" y="4724280"/>
            <a:ext cx="811080" cy="1332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H:\100MSDCF\DSC04291.JPG"/>
          <p:cNvPicPr/>
          <p:nvPr/>
        </p:nvPicPr>
        <p:blipFill>
          <a:blip r:embed="rId3"/>
          <a:stretch/>
        </p:blipFill>
        <p:spPr>
          <a:xfrm>
            <a:off x="324000" y="333360"/>
            <a:ext cx="25779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8"/>
          <p:cNvSpPr/>
          <p:nvPr/>
        </p:nvSpPr>
        <p:spPr>
          <a:xfrm>
            <a:off x="7020000" y="1916280"/>
            <a:ext cx="936720" cy="3168360"/>
          </a:xfrm>
          <a:prstGeom prst="rect">
            <a:avLst/>
          </a:prstGeom>
          <a:solidFill>
            <a:srgbClr val="bfbfb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7956720" y="1484280"/>
            <a:ext cx="1187280" cy="3600360"/>
          </a:xfrm>
          <a:prstGeom prst="rect">
            <a:avLst/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5651640" y="1844640"/>
            <a:ext cx="1368360" cy="3240000"/>
          </a:xfrm>
          <a:prstGeom prst="rect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27"/>
          <p:cNvSpPr/>
          <p:nvPr/>
        </p:nvSpPr>
        <p:spPr>
          <a:xfrm>
            <a:off x="4284720" y="1844640"/>
            <a:ext cx="1366920" cy="3240000"/>
          </a:xfrm>
          <a:prstGeom prst="rect">
            <a:avLst/>
          </a:prstGeom>
          <a:solidFill>
            <a:srgbClr val="fdead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92000" y="11592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Experimental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619280" y="1052280"/>
            <a:ext cx="216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1 to inform investment options (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xperiment with options to underpin scaling up and out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productivity (new varieties- at scale), land use for livestock and poul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 land productivity (nutrient use, decrease degrad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ress house nutrition and food 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3708360" y="1389240"/>
            <a:ext cx="5526000" cy="3744720"/>
            <a:chOff x="3708360" y="1389240"/>
            <a:chExt cx="5526000" cy="3744720"/>
          </a:xfrm>
        </p:grpSpPr>
        <p:sp>
          <p:nvSpPr>
            <p:cNvPr id="667" name="TextBox 4"/>
            <p:cNvSpPr/>
            <p:nvPr/>
          </p:nvSpPr>
          <p:spPr>
            <a:xfrm>
              <a:off x="7948800" y="1389240"/>
              <a:ext cx="128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caling up and 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oup 5"/>
            <p:cNvGrpSpPr/>
            <p:nvPr/>
          </p:nvGrpSpPr>
          <p:grpSpPr>
            <a:xfrm>
              <a:off x="3708360" y="1685880"/>
              <a:ext cx="5166720" cy="3448080"/>
              <a:chOff x="3708360" y="1685880"/>
              <a:chExt cx="5166720" cy="3448080"/>
            </a:xfrm>
          </p:grpSpPr>
          <p:grpSp>
            <p:nvGrpSpPr>
              <p:cNvPr id="669" name="Group 7"/>
              <p:cNvGrpSpPr/>
              <p:nvPr/>
            </p:nvGrpSpPr>
            <p:grpSpPr>
              <a:xfrm>
                <a:off x="4293360" y="1685880"/>
                <a:ext cx="4581720" cy="2956680"/>
                <a:chOff x="4293360" y="1685880"/>
                <a:chExt cx="4581720" cy="2956680"/>
              </a:xfrm>
            </p:grpSpPr>
            <p:sp>
              <p:nvSpPr>
                <p:cNvPr id="670" name="Straight Connector 18"/>
                <p:cNvSpPr/>
                <p:nvPr/>
              </p:nvSpPr>
              <p:spPr>
                <a:xfrm>
                  <a:off x="4293360" y="4596840"/>
                  <a:ext cx="4581720" cy="45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Straight Connector 19"/>
                <p:cNvSpPr/>
                <p:nvPr/>
              </p:nvSpPr>
              <p:spPr>
                <a:xfrm flipV="1">
                  <a:off x="4293360" y="1685880"/>
                  <a:ext cx="0" cy="29059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Straight Connector 20"/>
                <p:cNvSpPr/>
                <p:nvPr/>
              </p:nvSpPr>
              <p:spPr>
                <a:xfrm>
                  <a:off x="4293360" y="3713760"/>
                  <a:ext cx="13827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Straight Connector 21"/>
                <p:cNvSpPr/>
                <p:nvPr/>
              </p:nvSpPr>
              <p:spPr>
                <a:xfrm>
                  <a:off x="5676120" y="3356280"/>
                  <a:ext cx="134604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Straight Connector 22"/>
                <p:cNvSpPr/>
                <p:nvPr/>
              </p:nvSpPr>
              <p:spPr>
                <a:xfrm>
                  <a:off x="7022520" y="2910240"/>
                  <a:ext cx="9255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Straight Connector 23"/>
                <p:cNvSpPr/>
                <p:nvPr/>
              </p:nvSpPr>
              <p:spPr>
                <a:xfrm>
                  <a:off x="7948080" y="1974600"/>
                  <a:ext cx="92700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Straight Connector 24"/>
                <p:cNvSpPr/>
                <p:nvPr/>
              </p:nvSpPr>
              <p:spPr>
                <a:xfrm>
                  <a:off x="5676120" y="3356280"/>
                  <a:ext cx="0" cy="3571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Straight Connector 25"/>
                <p:cNvSpPr/>
                <p:nvPr/>
              </p:nvSpPr>
              <p:spPr>
                <a:xfrm>
                  <a:off x="7022520" y="2910240"/>
                  <a:ext cx="9360" cy="44604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Straight Connector 26"/>
                <p:cNvSpPr/>
                <p:nvPr/>
              </p:nvSpPr>
              <p:spPr>
                <a:xfrm>
                  <a:off x="7948080" y="1974600"/>
                  <a:ext cx="0" cy="990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9" name="TextBox 8"/>
              <p:cNvSpPr/>
              <p:nvPr/>
            </p:nvSpPr>
            <p:spPr>
              <a:xfrm>
                <a:off x="4293360" y="3179160"/>
                <a:ext cx="136296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Calibri"/>
                  </a:rPr>
                  <a:t>Experimentation</a:t>
                </a:r>
                <a:endParaRPr b="0" lang="en-US" sz="1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TextBox 9"/>
              <p:cNvSpPr/>
              <p:nvPr/>
            </p:nvSpPr>
            <p:spPr>
              <a:xfrm>
                <a:off x="6993000" y="254124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caling-u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TextBox 10"/>
              <p:cNvSpPr/>
              <p:nvPr/>
            </p:nvSpPr>
            <p:spPr>
              <a:xfrm>
                <a:off x="5736600" y="289188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Valid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Straight Connector 11"/>
              <p:cNvSpPr/>
              <p:nvPr/>
            </p:nvSpPr>
            <p:spPr>
              <a:xfrm>
                <a:off x="564840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Straight Connector 12"/>
              <p:cNvSpPr/>
              <p:nvPr/>
            </p:nvSpPr>
            <p:spPr>
              <a:xfrm>
                <a:off x="703116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Straight Connector 13"/>
              <p:cNvSpPr/>
              <p:nvPr/>
            </p:nvSpPr>
            <p:spPr>
              <a:xfrm>
                <a:off x="7979040" y="196524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TextBox 14"/>
              <p:cNvSpPr/>
              <p:nvPr/>
            </p:nvSpPr>
            <p:spPr>
              <a:xfrm rot="16200000">
                <a:off x="2932560" y="2872080"/>
                <a:ext cx="219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ncreasing resilience and productivit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TextBox 15"/>
              <p:cNvSpPr/>
              <p:nvPr/>
            </p:nvSpPr>
            <p:spPr>
              <a:xfrm>
                <a:off x="4473000" y="467280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TextBox 16"/>
              <p:cNvSpPr/>
              <p:nvPr/>
            </p:nvSpPr>
            <p:spPr>
              <a:xfrm>
                <a:off x="5736600" y="471024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TextBox 17"/>
              <p:cNvSpPr/>
              <p:nvPr/>
            </p:nvSpPr>
            <p:spPr>
              <a:xfrm>
                <a:off x="6939360" y="476568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TextBox 6"/>
            <p:cNvSpPr/>
            <p:nvPr/>
          </p:nvSpPr>
          <p:spPr>
            <a:xfrm>
              <a:off x="8142120" y="4765680"/>
              <a:ext cx="10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ear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228"/>
                </a:solidFill>
                <a:latin typeface="Calibri"/>
              </a:rPr>
              <a:t>Summary of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nchmark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ntifying options for piloting and up-scaling into our intensification model are being d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 varieti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ed systems for up-and out-sc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igations into production environ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rategic partnershi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direct implementers (contracted partners), and associate partners (critical partners non contractual partners) as well as community leadership are on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27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1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On-farm evaluation of improved legume &amp; cereals var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763640" y="907920"/>
          <a:ext cx="4680000" cy="5629320"/>
        </p:xfrm>
        <a:graphic>
          <a:graphicData uri="http://schemas.openxmlformats.org/drawingml/2006/table">
            <a:tbl>
              <a:tblPr/>
              <a:tblGrid>
                <a:gridCol w="1152720"/>
                <a:gridCol w="3527280"/>
              </a:tblGrid>
              <a:tr h="87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bility of new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Yield performance &amp; P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munity based seed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Groundnuts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igeon Pea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aize –especially QPM (OPV &amp; Hybri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Knowledge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esting and using most appropriate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ng cereals and legumes in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Evaluating suitability for intercrop, cover cr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4" name="Picture 7" descr="H:\photo_kongwa digital\Picture fr\P1010439.JPG"/>
          <p:cNvPicPr/>
          <p:nvPr/>
        </p:nvPicPr>
        <p:blipFill>
          <a:blip r:embed="rId1"/>
          <a:stretch/>
        </p:blipFill>
        <p:spPr>
          <a:xfrm>
            <a:off x="6443640" y="342900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2"/>
          <p:cNvSpPr/>
          <p:nvPr/>
        </p:nvSpPr>
        <p:spPr>
          <a:xfrm>
            <a:off x="6516720" y="558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crop Kogwa &amp; PVS at Moleti Kit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8" descr="H:\photo moleti ELIA\100OLYMP\P1010462.JPG"/>
          <p:cNvPicPr/>
          <p:nvPr/>
        </p:nvPicPr>
        <p:blipFill>
          <a:blip r:embed="rId2"/>
          <a:stretch/>
        </p:blipFill>
        <p:spPr>
          <a:xfrm>
            <a:off x="6443640" y="1557360"/>
            <a:ext cx="244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067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2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Integrated soil fertility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92360" y="836640"/>
          <a:ext cx="4354560" cy="5548320"/>
        </p:xfrm>
        <a:graphic>
          <a:graphicData uri="http://schemas.openxmlformats.org/drawingml/2006/table">
            <a:tbl>
              <a:tblPr/>
              <a:tblGrid>
                <a:gridCol w="1393920"/>
                <a:gridCol w="2960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limiting soil nutrients for crop production identifi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in-organic fertilizer usage by farm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for use of intercropping to improve soils fertility and yield of introduced varieties develop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analysis for various soil nutrient replenish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9" name="Picture 4" descr="H:\100MSDCF\DSC04291.JPG"/>
          <p:cNvPicPr/>
          <p:nvPr/>
        </p:nvPicPr>
        <p:blipFill>
          <a:blip r:embed="rId1"/>
          <a:stretch/>
        </p:blipFill>
        <p:spPr>
          <a:xfrm>
            <a:off x="6084720" y="2205000"/>
            <a:ext cx="2936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19280" y="43920"/>
            <a:ext cx="7067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3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Land and water management (soil and water conservation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692360" y="1268280"/>
          <a:ext cx="4103640" cy="5167440"/>
        </p:xfrm>
        <a:graphic>
          <a:graphicData uri="http://schemas.openxmlformats.org/drawingml/2006/table">
            <a:tbl>
              <a:tblPr/>
              <a:tblGrid>
                <a:gridCol w="1314360"/>
                <a:gridCol w="2789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2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bet soil water conservation and erosion control  technologies validated for up-scal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to improve soils and water management develo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for soils and water management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2" name="Picture 4" descr="H:\photo_kongwa digital\Picture fr\P1010448.JPG"/>
          <p:cNvPicPr/>
          <p:nvPr/>
        </p:nvPicPr>
        <p:blipFill>
          <a:blip r:embed="rId1"/>
          <a:stretch/>
        </p:blipFill>
        <p:spPr>
          <a:xfrm>
            <a:off x="6084720" y="1197000"/>
            <a:ext cx="2495880" cy="2293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H:\photo_kongwa digital\Picture fr\P1010446.JPG"/>
          <p:cNvPicPr/>
          <p:nvPr/>
        </p:nvPicPr>
        <p:blipFill>
          <a:blip r:embed="rId2"/>
          <a:stretch/>
        </p:blipFill>
        <p:spPr>
          <a:xfrm>
            <a:off x="6084720" y="3500280"/>
            <a:ext cx="2519640" cy="20894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6"/>
          <p:cNvSpPr/>
          <p:nvPr/>
        </p:nvSpPr>
        <p:spPr>
          <a:xfrm>
            <a:off x="5940360" y="58053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mers examine a maize crop produced under improved manag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19280" y="6480"/>
            <a:ext cx="752472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763640" y="907920"/>
          <a:ext cx="3960720" cy="5367600"/>
        </p:xfrm>
        <a:graphic>
          <a:graphicData uri="http://schemas.openxmlformats.org/drawingml/2006/table">
            <a:tbl>
              <a:tblPr/>
              <a:tblGrid>
                <a:gridCol w="917640"/>
                <a:gridCol w="304308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5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itiveness of Pigeon pea as alternative protein crop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on maize Groundnuts, Pigeon pea, Bean bambara nuts &amp; sorghum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eness raising among partner on aflatox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value chain for contamination poi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7" name="Chart 5" descr=""/>
          <p:cNvPicPr/>
          <p:nvPr/>
        </p:nvPicPr>
        <p:blipFill>
          <a:blip r:embed="rId1"/>
          <a:stretch/>
        </p:blipFill>
        <p:spPr>
          <a:xfrm>
            <a:off x="5718240" y="974880"/>
            <a:ext cx="3627360" cy="31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17222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9944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908000" y="1197000"/>
          <a:ext cx="6409080" cy="5184720"/>
        </p:xfrm>
        <a:graphic>
          <a:graphicData uri="http://schemas.openxmlformats.org/drawingml/2006/table">
            <a:tbl>
              <a:tblPr/>
              <a:tblGrid>
                <a:gridCol w="2065680"/>
                <a:gridCol w="4343400"/>
              </a:tblGrid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1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diagnostic platform at ARI Hombolo for the target area. (working with Selian 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ild capacity of ARI Hombolo and Selian to ID aflatox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al activities for diagnostic platfor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efficiency of techniques together with T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1276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619280" y="1484280"/>
          <a:ext cx="7056360" cy="4697280"/>
        </p:xfrm>
        <a:graphic>
          <a:graphicData uri="http://schemas.openxmlformats.org/drawingml/2006/table">
            <a:tbl>
              <a:tblPr/>
              <a:tblGrid>
                <a:gridCol w="2274840"/>
                <a:gridCol w="4781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adequate supply of quality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existing species (Year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pagation studies for best bet species (Year 2&amp;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tudies on management option for semi arid areas (Year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1692360" y="148428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current management systems &amp; links to degradation &amp; feeds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Determine suitable livestock management systems for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inks to WP 2 and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rrying capacity of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Build capacity to manage best bet tech for poul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Recycling poultry to fer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1692360" y="90792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report highlight soil conditions and major constraints to SI in target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site condition of field sites targeted for on-farm trials evaluated and documented for M&amp;E and impacts assessmen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6: Characterization of sites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5760" y="233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4e25"/>
                </a:solidFill>
                <a:latin typeface="Calibri"/>
              </a:rPr>
              <a:t>Project S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4979880" y="3433680"/>
            <a:ext cx="38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teto district is found in the Manyara reg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n estimated population of 152,75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4892760" y="4905360"/>
            <a:ext cx="41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gwa District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s found in Dodoma Region. We are working in Mlali ward with a population of about 28,000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9" descr=""/>
          <p:cNvPicPr/>
          <p:nvPr/>
        </p:nvPicPr>
        <p:blipFill>
          <a:blip r:embed="rId1"/>
          <a:stretch/>
        </p:blipFill>
        <p:spPr>
          <a:xfrm>
            <a:off x="158760" y="99540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"/>
          <p:cNvPicPr/>
          <p:nvPr/>
        </p:nvPicPr>
        <p:blipFill>
          <a:blip r:embed="rId2"/>
          <a:stretch/>
        </p:blipFill>
        <p:spPr>
          <a:xfrm>
            <a:off x="5311800" y="1152360"/>
            <a:ext cx="2838600" cy="22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39" name="Straight Arrow Connector 12"/>
          <p:cNvCxnSpPr/>
          <p:nvPr/>
        </p:nvCxnSpPr>
        <p:spPr>
          <a:xfrm flipH="1">
            <a:off x="2804400" y="2253960"/>
            <a:ext cx="2507400" cy="23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4"/>
          <p:cNvCxnSpPr>
            <a:stCxn id="536" idx="1"/>
          </p:cNvCxnSpPr>
          <p:nvPr/>
        </p:nvCxnSpPr>
        <p:spPr>
          <a:xfrm flipH="1" flipV="1">
            <a:off x="2340720" y="2726640"/>
            <a:ext cx="2552040" cy="264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996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4D innovation platfor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nvergence &amp; complementarit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omplement of partners is fluid. Convergence of thrusts takes time and largely influence by extraneous fac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enchmanks are critical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&amp;D investment typologies are needed to implementation. (Helps to isolate Research from development issu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Intensification involves complex institutional and operational relationships. Limited understanding of what works and does not is critical for scaling up and design of appropriate interven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hampions for chang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hampions at community level are essential. This may compound design of evaluations because such people are usually targeted by oth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724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5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728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4"/>
          <a:srcRect l="0" t="0" r="17" b="34"/>
          <a:stretch/>
        </p:blipFill>
        <p:spPr>
          <a:xfrm>
            <a:off x="235080" y="4680"/>
            <a:ext cx="1990440" cy="40244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3952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755720" y="974880"/>
            <a:ext cx="69976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835280" y="836640"/>
            <a:ext cx="446544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Challenges to increased production/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Fragile farming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Erosion prone fa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ed land sca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soils fert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2. Degradative farming (crop/livestock) prac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Overgraz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mited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production potential varieties gr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4. Local demand for legumes (consumption) is 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3"/>
          <a:srcRect l="0" t="0" r="0" b="6178"/>
          <a:stretch/>
        </p:blipFill>
        <p:spPr>
          <a:xfrm>
            <a:off x="6300720" y="907920"/>
            <a:ext cx="2730600" cy="1619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poor maize field.jpg"/>
          <p:cNvPicPr/>
          <p:nvPr/>
        </p:nvPicPr>
        <p:blipFill>
          <a:blip r:embed="rId4"/>
          <a:srcRect l="0" t="14540" r="57622" b="0"/>
          <a:stretch/>
        </p:blipFill>
        <p:spPr>
          <a:xfrm>
            <a:off x="6300720" y="2565360"/>
            <a:ext cx="1295640" cy="1960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C:\Users\user\Pictures\RESEARCH PICS GOATS\DSC00847.JPG"/>
          <p:cNvPicPr/>
          <p:nvPr/>
        </p:nvPicPr>
        <p:blipFill>
          <a:blip r:embed="rId5"/>
          <a:stretch/>
        </p:blipFill>
        <p:spPr>
          <a:xfrm>
            <a:off x="7667640" y="263700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6"/>
          <a:srcRect l="0" t="21045" r="0" b="-9374"/>
          <a:stretch/>
        </p:blipFill>
        <p:spPr>
          <a:xfrm>
            <a:off x="6227640" y="4581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7"/>
          <a:stretch/>
        </p:blipFill>
        <p:spPr>
          <a:xfrm>
            <a:off x="7667640" y="4508640"/>
            <a:ext cx="128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5"/>
          <p:cNvSpPr/>
          <p:nvPr/>
        </p:nvSpPr>
        <p:spPr>
          <a:xfrm>
            <a:off x="1835280" y="836640"/>
            <a:ext cx="43923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The Opportun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Access to markets (Kibaigwa) local and outside of th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Under good management potential for high p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vestock is available (poultry, livestock) for food and man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Contribute to nutrition and crop productivity outcomes (leaverage other FTF programes TUBoreshe Chakula, NaFa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Management and yield enhancing technlogies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6443640" y="765000"/>
            <a:ext cx="2293920" cy="5740200"/>
            <a:chOff x="6443640" y="765000"/>
            <a:chExt cx="2293920" cy="5740200"/>
          </a:xfrm>
        </p:grpSpPr>
        <p:pic>
          <p:nvPicPr>
            <p:cNvPr id="560" name="Picture 3" descr="picture GN girl.jpg"/>
            <p:cNvPicPr/>
            <p:nvPr/>
          </p:nvPicPr>
          <p:blipFill>
            <a:blip r:embed="rId3"/>
            <a:stretch/>
          </p:blipFill>
          <p:spPr>
            <a:xfrm>
              <a:off x="6761160" y="765000"/>
              <a:ext cx="1500120" cy="11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1" descr="Ppea crop in the field.JPG"/>
            <p:cNvPicPr/>
            <p:nvPr/>
          </p:nvPicPr>
          <p:blipFill>
            <a:blip r:embed="rId4"/>
            <a:stretch/>
          </p:blipFill>
          <p:spPr>
            <a:xfrm>
              <a:off x="6761160" y="2000880"/>
              <a:ext cx="148572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4" descr=""/>
            <p:cNvPicPr/>
            <p:nvPr/>
          </p:nvPicPr>
          <p:blipFill>
            <a:blip r:embed="rId5"/>
            <a:stretch/>
          </p:blipFill>
          <p:spPr>
            <a:xfrm>
              <a:off x="6761160" y="3031200"/>
              <a:ext cx="14857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6" descr=""/>
            <p:cNvPicPr/>
            <p:nvPr/>
          </p:nvPicPr>
          <p:blipFill>
            <a:blip r:embed="rId6"/>
            <a:stretch/>
          </p:blipFill>
          <p:spPr>
            <a:xfrm>
              <a:off x="6761160" y="4129920"/>
              <a:ext cx="148572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" descr=""/>
            <p:cNvPicPr/>
            <p:nvPr/>
          </p:nvPicPr>
          <p:blipFill>
            <a:blip r:embed="rId7"/>
            <a:stretch/>
          </p:blipFill>
          <p:spPr>
            <a:xfrm>
              <a:off x="6761160" y="5077440"/>
              <a:ext cx="1528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2"/>
            <p:cNvSpPr/>
            <p:nvPr/>
          </p:nvSpPr>
          <p:spPr>
            <a:xfrm>
              <a:off x="6443640" y="6136920"/>
              <a:ext cx="22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M Mizengo Pind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92000" y="109440"/>
            <a:ext cx="698796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Africa RISING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692360" y="1155240"/>
            <a:ext cx="6835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search designed to test hypotheses that are linked to outputs and developmental outcomes identified by the Africa RISING program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lem-focused and demand drive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ities influenced by market demand, evolving policy environments, and changing social structures the needs of farm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ing that research outputs are targeted effectively to development needs and are feasible for target farm households to impl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lemented at several levels wi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research outputs that are likely to be common across the programm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erse research activities as guided by the individual project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le methods and tools to fit individual research activities and the con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aling will be at a pilot level  and beyond through the development of investment plans with development agenc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ontent Placeholder 3" descr=""/>
          <p:cNvPicPr/>
          <p:nvPr/>
        </p:nvPicPr>
        <p:blipFill>
          <a:blip r:embed="rId1"/>
          <a:stretch/>
        </p:blipFill>
        <p:spPr>
          <a:xfrm>
            <a:off x="1792440" y="3925800"/>
            <a:ext cx="7149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92000" y="31320"/>
            <a:ext cx="6994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Project Theory of 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Group 54"/>
          <p:cNvGrpSpPr/>
          <p:nvPr/>
        </p:nvGrpSpPr>
        <p:grpSpPr>
          <a:xfrm>
            <a:off x="1743120" y="836640"/>
            <a:ext cx="7146720" cy="5693760"/>
            <a:chOff x="1743120" y="836640"/>
            <a:chExt cx="7146720" cy="5693760"/>
          </a:xfrm>
        </p:grpSpPr>
        <p:grpSp>
          <p:nvGrpSpPr>
            <p:cNvPr id="571" name="Group 4"/>
            <p:cNvGrpSpPr/>
            <p:nvPr/>
          </p:nvGrpSpPr>
          <p:grpSpPr>
            <a:xfrm>
              <a:off x="1743120" y="836640"/>
              <a:ext cx="7146720" cy="5693760"/>
              <a:chOff x="1743120" y="836640"/>
              <a:chExt cx="7146720" cy="5693760"/>
            </a:xfrm>
          </p:grpSpPr>
          <p:sp>
            <p:nvSpPr>
              <p:cNvPr id="572" name="Straight Connector 7"/>
              <p:cNvSpPr/>
              <p:nvPr/>
            </p:nvSpPr>
            <p:spPr>
              <a:xfrm>
                <a:off x="2216880" y="4380120"/>
                <a:ext cx="554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Straight Connector 8"/>
              <p:cNvSpPr/>
              <p:nvPr/>
            </p:nvSpPr>
            <p:spPr>
              <a:xfrm>
                <a:off x="2196720" y="2090160"/>
                <a:ext cx="556308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4" name="Group 9"/>
              <p:cNvGrpSpPr/>
              <p:nvPr/>
            </p:nvGrpSpPr>
            <p:grpSpPr>
              <a:xfrm>
                <a:off x="7964640" y="918720"/>
                <a:ext cx="925200" cy="3525480"/>
                <a:chOff x="7964640" y="918720"/>
                <a:chExt cx="925200" cy="3525480"/>
              </a:xfrm>
            </p:grpSpPr>
            <p:sp>
              <p:nvSpPr>
                <p:cNvPr id="575" name="Rectangle 49"/>
                <p:cNvSpPr/>
                <p:nvPr/>
              </p:nvSpPr>
              <p:spPr>
                <a:xfrm>
                  <a:off x="8128080" y="1498680"/>
                  <a:ext cx="641880" cy="985320"/>
                </a:xfrm>
                <a:prstGeom prst="rect">
                  <a:avLst/>
                </a:prstGeom>
                <a:solidFill>
                  <a:srgbClr val="c0504d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Rectangle 50"/>
                <p:cNvSpPr/>
                <p:nvPr/>
              </p:nvSpPr>
              <p:spPr>
                <a:xfrm rot="16200000">
                  <a:off x="7447680" y="3143880"/>
                  <a:ext cx="1959840" cy="64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933c">
                        <a:alpha val="80000"/>
                      </a:srgbClr>
                    </a:gs>
                    <a:gs pos="100000">
                      <a:srgbClr val="ffffff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Isosceles Triangle 51"/>
                <p:cNvSpPr/>
                <p:nvPr/>
              </p:nvSpPr>
              <p:spPr>
                <a:xfrm>
                  <a:off x="7964640" y="918720"/>
                  <a:ext cx="925200" cy="58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e5e5"/>
                    </a:gs>
                    <a:gs pos="100000">
                      <a:srgbClr val="ffa2a1"/>
                    </a:gs>
                  </a:gsLst>
                  <a:lin ang="5400000"/>
                </a:gradFill>
                <a:ln w="9360">
                  <a:solidFill>
                    <a:srgbClr val="be4b48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TextBox 52"/>
                <p:cNvSpPr/>
                <p:nvPr/>
              </p:nvSpPr>
              <p:spPr>
                <a:xfrm rot="16200000">
                  <a:off x="7515720" y="3279960"/>
                  <a:ext cx="1775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fluence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TextBox 53"/>
                <p:cNvSpPr/>
                <p:nvPr/>
              </p:nvSpPr>
              <p:spPr>
                <a:xfrm rot="16200000">
                  <a:off x="7649640" y="1623960"/>
                  <a:ext cx="153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teres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0" name="Group 10"/>
              <p:cNvGrpSpPr/>
              <p:nvPr/>
            </p:nvGrpSpPr>
            <p:grpSpPr>
              <a:xfrm>
                <a:off x="2265840" y="887400"/>
                <a:ext cx="5698440" cy="5643000"/>
                <a:chOff x="2265840" y="887400"/>
                <a:chExt cx="5698440" cy="5643000"/>
              </a:xfrm>
            </p:grpSpPr>
            <p:grpSp>
              <p:nvGrpSpPr>
                <p:cNvPr id="581" name="Group 14"/>
                <p:cNvGrpSpPr/>
                <p:nvPr/>
              </p:nvGrpSpPr>
              <p:grpSpPr>
                <a:xfrm>
                  <a:off x="2295360" y="5730480"/>
                  <a:ext cx="5668920" cy="799920"/>
                  <a:chOff x="2295360" y="5730480"/>
                  <a:chExt cx="5668920" cy="799920"/>
                </a:xfrm>
              </p:grpSpPr>
              <p:grpSp>
                <p:nvGrpSpPr>
                  <p:cNvPr id="582" name="Group 42"/>
                  <p:cNvGrpSpPr/>
                  <p:nvPr/>
                </p:nvGrpSpPr>
                <p:grpSpPr>
                  <a:xfrm>
                    <a:off x="2309400" y="5730840"/>
                    <a:ext cx="5654880" cy="799560"/>
                    <a:chOff x="2309400" y="5730840"/>
                    <a:chExt cx="5654880" cy="799560"/>
                  </a:xfrm>
                </p:grpSpPr>
                <p:sp>
                  <p:nvSpPr>
                    <p:cNvPr id="583" name="TextBox 44"/>
                    <p:cNvSpPr/>
                    <p:nvPr/>
                  </p:nvSpPr>
                  <p:spPr>
                    <a:xfrm>
                      <a:off x="2400480" y="5995080"/>
                      <a:ext cx="16354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l &amp; multidisciplinary approaches used to improve agricultural inno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4" name="TextBox 45"/>
                    <p:cNvSpPr/>
                    <p:nvPr/>
                  </p:nvSpPr>
                  <p:spPr>
                    <a:xfrm>
                      <a:off x="4179600" y="602496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ed M&amp;E and learning in place for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5" name="TextBox 46"/>
                    <p:cNvSpPr/>
                    <p:nvPr/>
                  </p:nvSpPr>
                  <p:spPr>
                    <a:xfrm>
                      <a:off x="6894000" y="6020280"/>
                      <a:ext cx="10702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m operations is at optimum and well suppo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6" name="TextBox 47"/>
                    <p:cNvSpPr/>
                    <p:nvPr/>
                  </p:nvSpPr>
                  <p:spPr>
                    <a:xfrm>
                      <a:off x="5536800" y="602028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quality staff motivated to work for project  su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7" name="TextBox 48"/>
                    <p:cNvSpPr/>
                    <p:nvPr/>
                  </p:nvSpPr>
                  <p:spPr>
                    <a:xfrm>
                      <a:off x="2309400" y="5730840"/>
                      <a:ext cx="276192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onditions among project partn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88" name="Rectangle 43"/>
                  <p:cNvSpPr/>
                  <p:nvPr/>
                </p:nvSpPr>
                <p:spPr>
                  <a:xfrm>
                    <a:off x="2295360" y="5730480"/>
                    <a:ext cx="5668920" cy="795960"/>
                  </a:xfrm>
                  <a:prstGeom prst="rect">
                    <a:avLst/>
                  </a:prstGeom>
                  <a:noFill/>
                  <a:ln w="9360">
                    <a:solidFill>
                      <a:srgbClr val="7d60a0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9" name="Group 15"/>
                <p:cNvGrpSpPr/>
                <p:nvPr/>
              </p:nvGrpSpPr>
              <p:grpSpPr>
                <a:xfrm>
                  <a:off x="2295720" y="4521960"/>
                  <a:ext cx="5668560" cy="1083240"/>
                  <a:chOff x="2295720" y="4521960"/>
                  <a:chExt cx="5668560" cy="1083240"/>
                </a:xfrm>
              </p:grpSpPr>
              <p:grpSp>
                <p:nvGrpSpPr>
                  <p:cNvPr id="590" name="Group 35"/>
                  <p:cNvGrpSpPr/>
                  <p:nvPr/>
                </p:nvGrpSpPr>
                <p:grpSpPr>
                  <a:xfrm>
                    <a:off x="2297160" y="4522680"/>
                    <a:ext cx="5667120" cy="1073880"/>
                    <a:chOff x="2297160" y="4522680"/>
                    <a:chExt cx="5667120" cy="1073880"/>
                  </a:xfrm>
                </p:grpSpPr>
                <p:sp>
                  <p:nvSpPr>
                    <p:cNvPr id="591" name="TextBox 37"/>
                    <p:cNvSpPr/>
                    <p:nvPr/>
                  </p:nvSpPr>
                  <p:spPr>
                    <a:xfrm>
                      <a:off x="2380320" y="4808880"/>
                      <a:ext cx="122796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e, &amp; evaluate improved varieties of maize and grain legumes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2" name="TextBox 38"/>
                    <p:cNvSpPr/>
                    <p:nvPr/>
                  </p:nvSpPr>
                  <p:spPr>
                    <a:xfrm>
                      <a:off x="3750120" y="480888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 ISFT to improve plant nutrition, yields and agro-ecosystem resili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3" name="TextBox 39"/>
                    <p:cNvSpPr/>
                    <p:nvPr/>
                  </p:nvSpPr>
                  <p:spPr>
                    <a:xfrm>
                      <a:off x="5250240" y="4816800"/>
                      <a:ext cx="128592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&amp; promote land management options for sustainable intensifi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4" name="TextBox 40"/>
                    <p:cNvSpPr/>
                    <p:nvPr/>
                  </p:nvSpPr>
                  <p:spPr>
                    <a:xfrm>
                      <a:off x="6607440" y="480744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-harvest processing utilization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food safety improved nutrition outcom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5" name="TextBox 41"/>
                    <p:cNvSpPr/>
                    <p:nvPr/>
                  </p:nvSpPr>
                  <p:spPr>
                    <a:xfrm>
                      <a:off x="2297160" y="4522680"/>
                      <a:ext cx="264636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96" name="Rectangle 36"/>
                  <p:cNvSpPr/>
                  <p:nvPr/>
                </p:nvSpPr>
                <p:spPr>
                  <a:xfrm>
                    <a:off x="2295720" y="4521960"/>
                    <a:ext cx="5668560" cy="1083240"/>
                  </a:xfrm>
                  <a:prstGeom prst="rect">
                    <a:avLst/>
                  </a:prstGeom>
                  <a:noFill/>
                  <a:ln w="9360">
                    <a:solidFill>
                      <a:srgbClr val="b3a2c7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7" name="Group 16"/>
                <p:cNvGrpSpPr/>
                <p:nvPr/>
              </p:nvGrpSpPr>
              <p:grpSpPr>
                <a:xfrm>
                  <a:off x="2265840" y="887400"/>
                  <a:ext cx="5698440" cy="997560"/>
                  <a:chOff x="2265840" y="887400"/>
                  <a:chExt cx="5698440" cy="997560"/>
                </a:xfrm>
              </p:grpSpPr>
              <p:sp>
                <p:nvSpPr>
                  <p:cNvPr id="598" name="Rectangle 32"/>
                  <p:cNvSpPr/>
                  <p:nvPr/>
                </p:nvSpPr>
                <p:spPr>
                  <a:xfrm>
                    <a:off x="2291040" y="1243440"/>
                    <a:ext cx="5673240" cy="641520"/>
                  </a:xfrm>
                  <a:prstGeom prst="rect">
                    <a:avLst/>
                  </a:prstGeom>
                  <a:solidFill>
                    <a:srgbClr val="c0504d"/>
                  </a:solidFill>
                  <a:ln w="25560">
                    <a:solidFill>
                      <a:srgbClr val="8c38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S</a:t>
                    </a: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mallholder farm households especially women and children move out of poverty, food and nutritional insecurity while maintaining and/or improving ecosystem stabilit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9" name="TextBox 33"/>
                  <p:cNvSpPr/>
                  <p:nvPr/>
                </p:nvSpPr>
                <p:spPr>
                  <a:xfrm>
                    <a:off x="2265840" y="909720"/>
                    <a:ext cx="26780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ICRISAT Impac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0" name="Rectangle 34"/>
                  <p:cNvSpPr/>
                  <p:nvPr/>
                </p:nvSpPr>
                <p:spPr>
                  <a:xfrm>
                    <a:off x="2265840" y="887400"/>
                    <a:ext cx="5698440" cy="988200"/>
                  </a:xfrm>
                  <a:prstGeom prst="rect">
                    <a:avLst/>
                  </a:prstGeom>
                  <a:noFill/>
                  <a:ln w="9360">
                    <a:solidFill>
                      <a:srgbClr val="e6b9b8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1" name="Group 17"/>
                <p:cNvGrpSpPr/>
                <p:nvPr/>
              </p:nvGrpSpPr>
              <p:grpSpPr>
                <a:xfrm>
                  <a:off x="2297160" y="2161800"/>
                  <a:ext cx="5667120" cy="2085120"/>
                  <a:chOff x="2297160" y="2161800"/>
                  <a:chExt cx="5667120" cy="2085120"/>
                </a:xfrm>
              </p:grpSpPr>
              <p:grpSp>
                <p:nvGrpSpPr>
                  <p:cNvPr id="602" name="Group 18"/>
                  <p:cNvGrpSpPr/>
                  <p:nvPr/>
                </p:nvGrpSpPr>
                <p:grpSpPr>
                  <a:xfrm>
                    <a:off x="2305440" y="3234960"/>
                    <a:ext cx="5658840" cy="1011960"/>
                    <a:chOff x="2305440" y="3234960"/>
                    <a:chExt cx="5658840" cy="1011960"/>
                  </a:xfrm>
                </p:grpSpPr>
                <p:grpSp>
                  <p:nvGrpSpPr>
                    <p:cNvPr id="603" name="Group 25"/>
                    <p:cNvGrpSpPr/>
                    <p:nvPr/>
                  </p:nvGrpSpPr>
                  <p:grpSpPr>
                    <a:xfrm>
                      <a:off x="2305440" y="3234960"/>
                      <a:ext cx="5587560" cy="1002240"/>
                      <a:chOff x="2305440" y="3234960"/>
                      <a:chExt cx="5587560" cy="1002240"/>
                    </a:xfrm>
                  </p:grpSpPr>
                  <p:sp>
                    <p:nvSpPr>
                      <p:cNvPr id="604" name="TextBox 27"/>
                      <p:cNvSpPr/>
                      <p:nvPr/>
                    </p:nvSpPr>
                    <p:spPr>
                      <a:xfrm>
                        <a:off x="6723360" y="3592800"/>
                        <a:ext cx="11696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Government policy is supportive of investments in agricultur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5" name="TextBox 28"/>
                      <p:cNvSpPr/>
                      <p:nvPr/>
                    </p:nvSpPr>
                    <p:spPr>
                      <a:xfrm>
                        <a:off x="2356560" y="3594600"/>
                        <a:ext cx="13928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pportunities for improved access to seed and innovations support intensificatio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6" name="TextBox 29"/>
                      <p:cNvSpPr/>
                      <p:nvPr/>
                    </p:nvSpPr>
                    <p:spPr>
                      <a:xfrm>
                        <a:off x="5339880" y="3592800"/>
                        <a:ext cx="126720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Existing land tenure systems allows for farm to landscape level interventions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7" name="TextBox 30"/>
                      <p:cNvSpPr/>
                      <p:nvPr/>
                    </p:nvSpPr>
                    <p:spPr>
                      <a:xfrm>
                        <a:off x="3874320" y="3592800"/>
                        <a:ext cx="123228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Farmer organisations are functional &amp; supportive of the projec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8" name="TextBox 31"/>
                      <p:cNvSpPr/>
                      <p:nvPr/>
                    </p:nvSpPr>
                    <p:spPr>
                      <a:xfrm>
                        <a:off x="2305440" y="323496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Preconditions amongst in action site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09" name="Rectangle 26"/>
                    <p:cNvSpPr/>
                    <p:nvPr/>
                  </p:nvSpPr>
                  <p:spPr>
                    <a:xfrm>
                      <a:off x="2318760" y="3234960"/>
                      <a:ext cx="5645520" cy="1011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9bbb59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10" name="Group 19"/>
                  <p:cNvGrpSpPr/>
                  <p:nvPr/>
                </p:nvGrpSpPr>
                <p:grpSpPr>
                  <a:xfrm>
                    <a:off x="2297160" y="2161800"/>
                    <a:ext cx="5667120" cy="999720"/>
                    <a:chOff x="2297160" y="2161800"/>
                    <a:chExt cx="5667120" cy="999720"/>
                  </a:xfrm>
                </p:grpSpPr>
                <p:grpSp>
                  <p:nvGrpSpPr>
                    <p:cNvPr id="611" name="Group 20"/>
                    <p:cNvGrpSpPr/>
                    <p:nvPr/>
                  </p:nvGrpSpPr>
                  <p:grpSpPr>
                    <a:xfrm>
                      <a:off x="2324880" y="2235240"/>
                      <a:ext cx="5639400" cy="926280"/>
                      <a:chOff x="2324880" y="2235240"/>
                      <a:chExt cx="5639400" cy="926280"/>
                    </a:xfrm>
                  </p:grpSpPr>
                  <p:sp>
                    <p:nvSpPr>
                      <p:cNvPr id="612" name="TextBox 22"/>
                      <p:cNvSpPr/>
                      <p:nvPr/>
                    </p:nvSpPr>
                    <p:spPr>
                      <a:xfrm>
                        <a:off x="2325240" y="2518920"/>
                        <a:ext cx="2783160" cy="6426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ncreased crop yields in maize-legume farming systems by up to 100% for cereals and 80% for legumes.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3" name="TextBox 23"/>
                      <p:cNvSpPr/>
                      <p:nvPr/>
                    </p:nvSpPr>
                    <p:spPr>
                      <a:xfrm>
                        <a:off x="5179320" y="2518920"/>
                        <a:ext cx="2784960" cy="5054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2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mproved land productivity in robust agro-ecologies and productive farming and crop systems</a:t>
                        </a:r>
                        <a:r>
                          <a:rPr b="1" lang="en-GB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4" name="TextBox 24"/>
                      <p:cNvSpPr/>
                      <p:nvPr/>
                    </p:nvSpPr>
                    <p:spPr>
                      <a:xfrm>
                        <a:off x="2324880" y="223524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frica Rising outcome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15" name="Rectangle 21"/>
                    <p:cNvSpPr/>
                    <p:nvPr/>
                  </p:nvSpPr>
                  <p:spPr>
                    <a:xfrm>
                      <a:off x="2297160" y="2161800"/>
                      <a:ext cx="5667120" cy="984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7e4bd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616" name="TextBox 11"/>
              <p:cNvGrpSpPr/>
              <p:nvPr/>
            </p:nvGrpSpPr>
            <p:grpSpPr>
              <a:xfrm>
                <a:off x="1743120" y="4488120"/>
                <a:ext cx="513720" cy="1889280"/>
                <a:chOff x="1743120" y="4488120"/>
                <a:chExt cx="513720" cy="1889280"/>
              </a:xfrm>
            </p:grpSpPr>
            <p:pic>
              <p:nvPicPr>
                <p:cNvPr id="617" name="TextBox 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3120" y="4488120"/>
                  <a:ext cx="513720" cy="188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0800000">
                  <a:off x="1802880" y="4522680"/>
                  <a:ext cx="393480" cy="17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puts and activi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9" name="TextBox 12"/>
              <p:cNvGrpSpPr/>
              <p:nvPr/>
            </p:nvGrpSpPr>
            <p:grpSpPr>
              <a:xfrm>
                <a:off x="1797480" y="2640960"/>
                <a:ext cx="455040" cy="1374480"/>
                <a:chOff x="1797480" y="2640960"/>
                <a:chExt cx="455040" cy="1374480"/>
              </a:xfrm>
            </p:grpSpPr>
            <p:pic>
              <p:nvPicPr>
                <p:cNvPr id="620" name="TextBox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97480" y="2640960"/>
                  <a:ext cx="441000" cy="137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1" name=""/>
                <p:cNvSpPr/>
                <p:nvPr/>
              </p:nvSpPr>
              <p:spPr>
                <a:xfrm rot="10800000">
                  <a:off x="1859040" y="2677680"/>
                  <a:ext cx="39348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com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2" name="TextBox 13"/>
              <p:cNvGrpSpPr/>
              <p:nvPr/>
            </p:nvGrpSpPr>
            <p:grpSpPr>
              <a:xfrm>
                <a:off x="1797480" y="836640"/>
                <a:ext cx="455760" cy="1259280"/>
                <a:chOff x="1797480" y="836640"/>
                <a:chExt cx="455760" cy="1259280"/>
              </a:xfrm>
            </p:grpSpPr>
            <p:pic>
              <p:nvPicPr>
                <p:cNvPr id="623" name="TextBox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97480" y="836640"/>
                  <a:ext cx="441000" cy="12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"/>
                <p:cNvSpPr/>
                <p:nvPr/>
              </p:nvSpPr>
              <p:spPr>
                <a:xfrm rot="10800000">
                  <a:off x="1859760" y="874080"/>
                  <a:ext cx="393480" cy="114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Impact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25" name="Rectangle 5"/>
            <p:cNvSpPr/>
            <p:nvPr/>
          </p:nvSpPr>
          <p:spPr>
            <a:xfrm rot="16200000">
              <a:off x="7400520" y="5119200"/>
              <a:ext cx="2065320" cy="645840"/>
            </a:xfrm>
            <a:prstGeom prst="rect">
              <a:avLst/>
            </a:prstGeom>
            <a:gradFill rotWithShape="0">
              <a:gsLst>
                <a:gs pos="0">
                  <a:srgbClr val="660066">
                    <a:alpha val="48235"/>
                  </a:srgbClr>
                </a:gs>
                <a:gs pos="100000">
                  <a:srgbClr val="ffffff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6"/>
            <p:cNvSpPr/>
            <p:nvPr/>
          </p:nvSpPr>
          <p:spPr>
            <a:xfrm rot="16200000">
              <a:off x="7516440" y="5374800"/>
              <a:ext cx="178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here of influ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The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1908000" y="1557360"/>
            <a:ext cx="6610680" cy="4514760"/>
            <a:chOff x="1908000" y="1557360"/>
            <a:chExt cx="6610680" cy="4514760"/>
          </a:xfrm>
        </p:grpSpPr>
        <p:grpSp>
          <p:nvGrpSpPr>
            <p:cNvPr id="629" name="Group 5"/>
            <p:cNvGrpSpPr/>
            <p:nvPr/>
          </p:nvGrpSpPr>
          <p:grpSpPr>
            <a:xfrm>
              <a:off x="3742560" y="2099520"/>
              <a:ext cx="2922480" cy="3972600"/>
              <a:chOff x="3742560" y="2099520"/>
              <a:chExt cx="2922480" cy="3972600"/>
            </a:xfrm>
          </p:grpSpPr>
          <p:grpSp>
            <p:nvGrpSpPr>
              <p:cNvPr id="630" name="Group 18"/>
              <p:cNvGrpSpPr/>
              <p:nvPr/>
            </p:nvGrpSpPr>
            <p:grpSpPr>
              <a:xfrm>
                <a:off x="3742560" y="2099520"/>
                <a:ext cx="2922480" cy="3972600"/>
                <a:chOff x="3742560" y="2099520"/>
                <a:chExt cx="2922480" cy="3972600"/>
              </a:xfrm>
            </p:grpSpPr>
            <p:sp>
              <p:nvSpPr>
                <p:cNvPr id="631" name="Oval 26"/>
                <p:cNvSpPr/>
                <p:nvPr/>
              </p:nvSpPr>
              <p:spPr>
                <a:xfrm>
                  <a:off x="3742560" y="2099520"/>
                  <a:ext cx="2922480" cy="3972600"/>
                </a:xfrm>
                <a:prstGeom prst="ellipse">
                  <a:avLst/>
                </a:prstGeom>
                <a:solidFill>
                  <a:srgbClr val="e6b9b8"/>
                </a:solidFill>
                <a:ln w="9360">
                  <a:solidFill>
                    <a:srgbClr val="4a7ebb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TextBox 27"/>
                <p:cNvSpPr/>
                <p:nvPr/>
              </p:nvSpPr>
              <p:spPr>
                <a:xfrm>
                  <a:off x="4177800" y="2204640"/>
                  <a:ext cx="196740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Agriculture development environ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" name="Group 19"/>
              <p:cNvGrpSpPr/>
              <p:nvPr/>
            </p:nvGrpSpPr>
            <p:grpSpPr>
              <a:xfrm>
                <a:off x="4052160" y="3081600"/>
                <a:ext cx="2092680" cy="2990520"/>
                <a:chOff x="4052160" y="3081600"/>
                <a:chExt cx="2092680" cy="2990520"/>
              </a:xfrm>
            </p:grpSpPr>
            <p:grpSp>
              <p:nvGrpSpPr>
                <p:cNvPr id="634" name="Group 20"/>
                <p:cNvGrpSpPr/>
                <p:nvPr/>
              </p:nvGrpSpPr>
              <p:grpSpPr>
                <a:xfrm>
                  <a:off x="4052160" y="3081600"/>
                  <a:ext cx="2092680" cy="2990520"/>
                  <a:chOff x="4052160" y="3081600"/>
                  <a:chExt cx="2092680" cy="2990520"/>
                </a:xfrm>
              </p:grpSpPr>
              <p:sp>
                <p:nvSpPr>
                  <p:cNvPr id="635" name="Oval 24"/>
                  <p:cNvSpPr/>
                  <p:nvPr/>
                </p:nvSpPr>
                <p:spPr>
                  <a:xfrm>
                    <a:off x="4052160" y="3081600"/>
                    <a:ext cx="2092680" cy="2990520"/>
                  </a:xfrm>
                  <a:prstGeom prst="ellipse">
                    <a:avLst/>
                  </a:prstGeom>
                  <a:solidFill>
                    <a:srgbClr val="9bbb59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6" name="TextBox 25"/>
                  <p:cNvSpPr/>
                  <p:nvPr/>
                </p:nvSpPr>
                <p:spPr>
                  <a:xfrm>
                    <a:off x="4492800" y="3138480"/>
                    <a:ext cx="12124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NARES, IARCs and institu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7" name="Group 21"/>
                <p:cNvGrpSpPr/>
                <p:nvPr/>
              </p:nvGrpSpPr>
              <p:grpSpPr>
                <a:xfrm>
                  <a:off x="4315680" y="4005000"/>
                  <a:ext cx="1536480" cy="2067120"/>
                  <a:chOff x="4315680" y="4005000"/>
                  <a:chExt cx="1536480" cy="2067120"/>
                </a:xfrm>
              </p:grpSpPr>
              <p:sp>
                <p:nvSpPr>
                  <p:cNvPr id="638" name="Oval 22"/>
                  <p:cNvSpPr/>
                  <p:nvPr/>
                </p:nvSpPr>
                <p:spPr>
                  <a:xfrm>
                    <a:off x="4315680" y="4005000"/>
                    <a:ext cx="1536480" cy="20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a7ccb"/>
                      </a:gs>
                      <a:gs pos="100000">
                        <a:srgbClr val="2c5d98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9" name="TextBox 23"/>
                  <p:cNvSpPr/>
                  <p:nvPr/>
                </p:nvSpPr>
                <p:spPr>
                  <a:xfrm>
                    <a:off x="4427640" y="4434840"/>
                    <a:ext cx="138132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Calibri"/>
                      </a:rPr>
                      <a:t>Farmers and their organiza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40" name="Group 6"/>
            <p:cNvGrpSpPr/>
            <p:nvPr/>
          </p:nvGrpSpPr>
          <p:grpSpPr>
            <a:xfrm>
              <a:off x="1908000" y="1557360"/>
              <a:ext cx="1834560" cy="1275120"/>
              <a:chOff x="1908000" y="1557360"/>
              <a:chExt cx="1834560" cy="1275120"/>
            </a:xfrm>
          </p:grpSpPr>
          <p:sp>
            <p:nvSpPr>
              <p:cNvPr id="641" name="Rounded Rectangle 16"/>
              <p:cNvSpPr/>
              <p:nvPr/>
            </p:nvSpPr>
            <p:spPr>
              <a:xfrm>
                <a:off x="1908000" y="1557360"/>
                <a:ext cx="183456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TextBox 17"/>
              <p:cNvSpPr/>
              <p:nvPr/>
            </p:nvSpPr>
            <p:spPr>
              <a:xfrm>
                <a:off x="1999440" y="1557360"/>
                <a:ext cx="16506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Including policy institutions, infrastructure, human and natural resourc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3" name="Group 7"/>
            <p:cNvGrpSpPr/>
            <p:nvPr/>
          </p:nvGrpSpPr>
          <p:grpSpPr>
            <a:xfrm>
              <a:off x="6665040" y="3622680"/>
              <a:ext cx="1853640" cy="1275120"/>
              <a:chOff x="6665040" y="3622680"/>
              <a:chExt cx="1853640" cy="1275120"/>
            </a:xfrm>
          </p:grpSpPr>
          <p:sp>
            <p:nvSpPr>
              <p:cNvPr id="644" name="Rounded Rectangle 14"/>
              <p:cNvSpPr/>
              <p:nvPr/>
            </p:nvSpPr>
            <p:spPr>
              <a:xfrm>
                <a:off x="6683400" y="3622680"/>
                <a:ext cx="183528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TextBox 15"/>
              <p:cNvSpPr/>
              <p:nvPr/>
            </p:nvSpPr>
            <p:spPr>
              <a:xfrm>
                <a:off x="6665040" y="3729240"/>
                <a:ext cx="17960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R&amp;D stakeholders, and their communities including NGO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8"/>
            <p:cNvGrpSpPr/>
            <p:nvPr/>
          </p:nvGrpSpPr>
          <p:grpSpPr>
            <a:xfrm>
              <a:off x="1908000" y="4910760"/>
              <a:ext cx="1742760" cy="851760"/>
              <a:chOff x="1908000" y="4910760"/>
              <a:chExt cx="1742760" cy="851760"/>
            </a:xfrm>
          </p:grpSpPr>
          <p:sp>
            <p:nvSpPr>
              <p:cNvPr id="647" name="Rounded Rectangle 12"/>
              <p:cNvSpPr/>
              <p:nvPr/>
            </p:nvSpPr>
            <p:spPr>
              <a:xfrm>
                <a:off x="1908000" y="4910760"/>
                <a:ext cx="1742760" cy="85176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TextBox 13"/>
              <p:cNvSpPr/>
              <p:nvPr/>
            </p:nvSpPr>
            <p:spPr>
              <a:xfrm>
                <a:off x="1995120" y="4911120"/>
                <a:ext cx="1568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Ultimate beneficiaries, the farmer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649" name="Straight Arrow Connector 9"/>
            <p:cNvCxnSpPr>
              <a:endCxn id="632" idx="1"/>
            </p:cNvCxnSpPr>
            <p:nvPr/>
          </p:nvCxnSpPr>
          <p:spPr>
            <a:xfrm>
              <a:off x="3743280" y="1976040"/>
              <a:ext cx="435600" cy="50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0" name="Straight Arrow Connector 10"/>
            <p:cNvCxnSpPr>
              <a:stCxn id="644" idx="1"/>
            </p:cNvCxnSpPr>
            <p:nvPr/>
          </p:nvCxnSpPr>
          <p:spPr>
            <a:xfrm flipH="1" flipV="1">
              <a:off x="5962320" y="4179600"/>
              <a:ext cx="721440" cy="81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1" name="Straight Arrow Connector 11"/>
            <p:cNvCxnSpPr>
              <a:stCxn id="647" idx="3"/>
            </p:cNvCxnSpPr>
            <p:nvPr/>
          </p:nvCxnSpPr>
          <p:spPr>
            <a:xfrm flipV="1">
              <a:off x="3650760" y="5038200"/>
              <a:ext cx="842040" cy="299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896840" y="-27000"/>
            <a:ext cx="699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5c29"/>
                </a:solidFill>
                <a:latin typeface="Calibri"/>
              </a:rPr>
              <a:t>Intensifica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Content Placeholder 5" descr=""/>
          <p:cNvPicPr/>
          <p:nvPr/>
        </p:nvPicPr>
        <p:blipFill>
          <a:blip r:embed="rId1"/>
          <a:stretch/>
        </p:blipFill>
        <p:spPr>
          <a:xfrm>
            <a:off x="2620800" y="798480"/>
            <a:ext cx="5846760" cy="4359240"/>
          </a:xfrm>
          <a:prstGeom prst="rect">
            <a:avLst/>
          </a:prstGeom>
          <a:ln w="0">
            <a:noFill/>
          </a:ln>
        </p:spPr>
      </p:pic>
      <p:sp>
        <p:nvSpPr>
          <p:cNvPr id="654" name="Diagonal Stripe 7"/>
          <p:cNvSpPr/>
          <p:nvPr/>
        </p:nvSpPr>
        <p:spPr>
          <a:xfrm rot="13387200">
            <a:off x="3759120" y="3857760"/>
            <a:ext cx="3570480" cy="3246480"/>
          </a:xfrm>
          <a:custGeom>
            <a:avLst/>
            <a:gdLst>
              <a:gd name="textAreaLeft" fmla="*/ 0 w 3570480"/>
              <a:gd name="textAreaRight" fmla="*/ 3570840 w 357048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3570288" h="3246438">
                <a:moveTo>
                  <a:pt x="0" y="1623219"/>
                </a:moveTo>
                <a:lnTo>
                  <a:pt x="1785144" y="0"/>
                </a:lnTo>
                <a:lnTo>
                  <a:pt x="3570288" y="0"/>
                </a:lnTo>
                <a:lnTo>
                  <a:pt x="0" y="3246438"/>
                </a:lnTo>
                <a:lnTo>
                  <a:pt x="0" y="1623219"/>
                </a:lnTo>
                <a:close/>
              </a:path>
            </a:pathLst>
          </a:cu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3614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4067280" y="558972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roved agricultural productivity and nutrition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Up-Down Arrow 9"/>
          <p:cNvSpPr/>
          <p:nvPr/>
        </p:nvSpPr>
        <p:spPr>
          <a:xfrm>
            <a:off x="5435640" y="5084640"/>
            <a:ext cx="216000" cy="360360"/>
          </a:xfrm>
          <a:prstGeom prst="upDown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Straight Arrow Connector 2"/>
          <p:cNvCxnSpPr/>
          <p:nvPr/>
        </p:nvCxnSpPr>
        <p:spPr>
          <a:xfrm flipV="1">
            <a:off x="4643280" y="3859920"/>
            <a:ext cx="43416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8" name="Straight Arrow Connector 8"/>
          <p:cNvCxnSpPr/>
          <p:nvPr/>
        </p:nvCxnSpPr>
        <p:spPr>
          <a:xfrm flipH="1" flipV="1">
            <a:off x="5866920" y="3933360"/>
            <a:ext cx="434160" cy="216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9" name="Straight Arrow Connector 10"/>
          <p:cNvCxnSpPr/>
          <p:nvPr/>
        </p:nvCxnSpPr>
        <p:spPr>
          <a:xfrm>
            <a:off x="5435280" y="2852280"/>
            <a:ext cx="108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IZeledon</cp:lastModifiedBy>
  <dcterms:modified xsi:type="dcterms:W3CDTF">2013-05-29T06:41:17Z</dcterms:modified>
  <cp:revision>2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